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F88-5375-4578-A100-F573DA3F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DEE-9734-4D0F-A8A2-AE75889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E55-CA41-4E9E-A546-06341DCF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346-F869-44A3-8120-D7D28A8A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CC6-9D9E-4FDC-B266-31A32B1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804-1BDC-45E9-BB98-F23E193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CD3-5452-47F1-9271-D55AF76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366-CC90-464D-9F7A-E49FC4B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CC6-1335-47AC-9ADF-8602415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44D-7CE5-4073-A21C-945BC37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BA0-9238-4818-B47E-A26AD520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D88-3885-4CB5-8D7C-56AEBC1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51DF-4F07-49F5-96C1-DB575AA6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rograms &amp; Intro to 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6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“Obje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ure C, we can emulate OOP by using struct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example, we will create a String object that can be used to facilitate the use of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how this can be 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onstruction/De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nstructString(String&amp; rString, int 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tring.pStr = new char[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tring.length = 0; // Nothing in string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estructString(String&amp; r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[] rString.p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Str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String(String&amp; rString, char str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rString.pStr, 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tring.length = strlen(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StringLength(String&amp; r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String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String(String&amp; r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%s\n”, rString.p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use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yName; // Declare a String “objec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String(myName, 50); // Create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String(myName, “Tony”); // Set a value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length = GetStringLength(myName); // Get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Length: %d\n”, leng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String(myName); // Output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ructString(myName); // Destroy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ver deal with the char* directly, we only use the struct and the functions (we deal only with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-specific information, like the length, is all packaged together in the struct (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we don’t change the function declaration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we can change the struct and how the functions use i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out affecting code that use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stops the user from modifying the struct values directly! The data is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y forget to call ConstructString() and/or DestructString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ying having to pass the String struct to every singl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ure C, there is no solution; but in C++, we can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next wee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C/C++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670120"/>
            <a:ext cx="2590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function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87800" y="2666880"/>
            <a:ext cx="24796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function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(“Boo!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5029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13760" y="1600200"/>
            <a:ext cx="1415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4760" y="5029200"/>
            <a:ext cx="16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0760" y="625320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5" idx="0"/>
            <a:endCxn id="47" idx="2"/>
          </p:cNvCxnSpPr>
          <p:nvPr/>
        </p:nvCxnSpPr>
        <p:spPr>
          <a:xfrm flipH="1" flipV="1">
            <a:off x="6220800" y="2250360"/>
            <a:ext cx="684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0"/>
            <a:endCxn id="47" idx="1"/>
          </p:cNvCxnSpPr>
          <p:nvPr/>
        </p:nvCxnSpPr>
        <p:spPr>
          <a:xfrm flipV="1">
            <a:off x="2743200" y="1925280"/>
            <a:ext cx="276624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6" idx="0"/>
          </p:cNvCxnSpPr>
          <p:nvPr/>
        </p:nvCxnSpPr>
        <p:spPr>
          <a:xfrm>
            <a:off x="27428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8" idx="0"/>
          </p:cNvCxnSpPr>
          <p:nvPr/>
        </p:nvCxnSpPr>
        <p:spPr>
          <a:xfrm flipH="1">
            <a:off x="6224400" y="4416480"/>
            <a:ext cx="360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49" idx="0"/>
          </p:cNvCxnSpPr>
          <p:nvPr/>
        </p:nvCxnSpPr>
        <p:spPr>
          <a:xfrm flipH="1" rot="16200000">
            <a:off x="3106440" y="5040720"/>
            <a:ext cx="848520" cy="157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2"/>
            <a:endCxn id="49" idx="0"/>
          </p:cNvCxnSpPr>
          <p:nvPr/>
        </p:nvCxnSpPr>
        <p:spPr>
          <a:xfrm rot="5400000">
            <a:off x="4847760" y="4876560"/>
            <a:ext cx="84852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31120" y="4495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240" y="5678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0880" y="202104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rite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your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.c/.cpp files must be part of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iles all .c/.cpp files into their respective .obj (object)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all .obj files and produces the output file(s): .exe, .dll, .l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Common Linker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bug/linkerror.exe : fatal error LNK1169: one or more multiply defined symbols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when at least 2 .obj files contain the sa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le decla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defin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an examp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r Err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441520"/>
            <a:ext cx="25909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25909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121932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4" idx="0"/>
            <a:endCxn id="66" idx="1"/>
          </p:cNvCxnSpPr>
          <p:nvPr/>
        </p:nvCxnSpPr>
        <p:spPr>
          <a:xfrm flipV="1">
            <a:off x="2819160" y="1682280"/>
            <a:ext cx="190548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5" idx="0"/>
            <a:endCxn id="66" idx="2"/>
          </p:cNvCxnSpPr>
          <p:nvPr/>
        </p:nvCxnSpPr>
        <p:spPr>
          <a:xfrm flipV="1">
            <a:off x="6019560" y="2144160"/>
            <a:ext cx="108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752480" y="472428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”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7242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”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4" idx="2"/>
            <a:endCxn id="69" idx="0"/>
          </p:cNvCxnSpPr>
          <p:nvPr/>
        </p:nvCxnSpPr>
        <p:spPr>
          <a:xfrm>
            <a:off x="2819160" y="41907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5" idx="2"/>
            <a:endCxn id="70" idx="0"/>
          </p:cNvCxnSpPr>
          <p:nvPr/>
        </p:nvCxnSpPr>
        <p:spPr>
          <a:xfrm>
            <a:off x="6019560" y="4187880"/>
            <a:ext cx="108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788280" y="6248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9" idx="2"/>
            <a:endCxn id="73" idx="0"/>
          </p:cNvCxnSpPr>
          <p:nvPr/>
        </p:nvCxnSpPr>
        <p:spPr>
          <a:xfrm flipH="1" rot="16200000">
            <a:off x="3155760" y="5037840"/>
            <a:ext cx="874080" cy="154836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2"/>
            <a:endCxn id="73" idx="0"/>
          </p:cNvCxnSpPr>
          <p:nvPr/>
        </p:nvCxnSpPr>
        <p:spPr>
          <a:xfrm rot="5400000">
            <a:off x="4755960" y="4985280"/>
            <a:ext cx="874080" cy="165348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46160" y="419112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s alrig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080" y="56786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r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2441520"/>
            <a:ext cx="2590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438280"/>
            <a:ext cx="2590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fo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0"/>
            <a:endCxn id="81" idx="1"/>
          </p:cNvCxnSpPr>
          <p:nvPr/>
        </p:nvCxnSpPr>
        <p:spPr>
          <a:xfrm flipV="1">
            <a:off x="2819160" y="1682280"/>
            <a:ext cx="190548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0"/>
            <a:endCxn id="81" idx="2"/>
          </p:cNvCxnSpPr>
          <p:nvPr/>
        </p:nvCxnSpPr>
        <p:spPr>
          <a:xfrm flipV="1">
            <a:off x="6019560" y="2144160"/>
            <a:ext cx="108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752480" y="4911840"/>
            <a:ext cx="2133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911840"/>
            <a:ext cx="1981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”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9" idx="2"/>
            <a:endCxn id="84" idx="0"/>
          </p:cNvCxnSpPr>
          <p:nvPr/>
        </p:nvCxnSpPr>
        <p:spPr>
          <a:xfrm>
            <a:off x="2819160" y="4465440"/>
            <a:ext cx="108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2"/>
            <a:endCxn id="85" idx="0"/>
          </p:cNvCxnSpPr>
          <p:nvPr/>
        </p:nvCxnSpPr>
        <p:spPr>
          <a:xfrm>
            <a:off x="6019560" y="446256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788280" y="6248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4" idx="2"/>
            <a:endCxn id="88" idx="0"/>
          </p:cNvCxnSpPr>
          <p:nvPr/>
        </p:nvCxnSpPr>
        <p:spPr>
          <a:xfrm flipH="1" rot="16200000">
            <a:off x="3386880" y="5268960"/>
            <a:ext cx="411840" cy="154836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8" idx="0"/>
          </p:cNvCxnSpPr>
          <p:nvPr/>
        </p:nvCxnSpPr>
        <p:spPr>
          <a:xfrm rot="5400000">
            <a:off x="4987080" y="5216400"/>
            <a:ext cx="411840" cy="165348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24280" y="16002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6080" y="2971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25680" y="2971800"/>
            <a:ext cx="2224080" cy="2852280"/>
            <a:chOff x="1525680" y="2971800"/>
            <a:chExt cx="2224080" cy="2852280"/>
          </a:xfrm>
        </p:grpSpPr>
        <p:sp>
          <p:nvSpPr>
            <p:cNvPr id="94" name=""/>
            <p:cNvSpPr/>
            <p:nvPr/>
          </p:nvSpPr>
          <p:spPr>
            <a:xfrm>
              <a:off x="1525680" y="29718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xtern int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52480" y="5181480"/>
              <a:ext cx="199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 a” defined somewhere 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P: 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tart by implementing OOP in pure C (not C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ee the problems inherent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ee how to solve these problems using constructs introduced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group variables of different data types into one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reat a structure as any normal data type; example: you can have an array of 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a “rec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ring.h&gt; // for strcp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name[5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ton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tony.name, “Tony Maiorano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ny.age = 2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employees[100]; // Array of 100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s[23].age = 4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37:03Z</dcterms:created>
  <dc:creator>Antonio Maiorano</dc:creator>
  <dc:description/>
  <dc:language>en-US</dc:language>
  <cp:lastModifiedBy>Tony</cp:lastModifiedBy>
  <dcterms:modified xsi:type="dcterms:W3CDTF">2003-08-23T18:08:52Z</dcterms:modified>
  <cp:revision>34</cp:revision>
  <dc:subject/>
  <dc:title>C/C++ Tutorial</dc:title>
</cp:coreProperties>
</file>